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A4E-214F-4FFC-A08E-F5456191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B13-FA5F-4CE5-8F12-BFAD8CF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9AE-D37A-4EE4-BD5A-1E231216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27F-7094-4164-9042-8988D820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DED-FC14-4C48-9C71-E79CEA98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6D3-FBAF-4A50-AD67-423CD9A8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480-117F-44A5-BE44-85DF576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02E-230A-4630-8C1F-653B331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EAE-E084-4CE2-AAA9-4BA7A884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2E9-ECF0-4301-BF34-69973BE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4A0-700B-48DA-8C66-3B75355E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226-7143-4536-BD90-34E1D8C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EA9-CC37-449B-B323-F91695312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ylan Bu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990720" y="2514600"/>
            <a:ext cx="57909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1676520" y="2895480"/>
            <a:ext cx="4462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static.ddmcdn.com/gif/willow/ancient-greece0.gif"/>
          <p:cNvPicPr/>
          <p:nvPr/>
        </p:nvPicPr>
        <p:blipFill>
          <a:blip r:embed="rId1"/>
          <a:stretch/>
        </p:blipFill>
        <p:spPr>
          <a:xfrm>
            <a:off x="1905120" y="2438280"/>
            <a:ext cx="4343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1676520" y="2209680"/>
            <a:ext cx="49528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2666880" y="2819520"/>
            <a:ext cx="4407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63360" y="-380880"/>
            <a:ext cx="1247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752480" y="2755800"/>
            <a:ext cx="5639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historylink101.net/greek_images/acropolis-from-below.jpg"/>
          <p:cNvPicPr/>
          <p:nvPr/>
        </p:nvPicPr>
        <p:blipFill>
          <a:blip r:embed="rId1"/>
          <a:stretch/>
        </p:blipFill>
        <p:spPr>
          <a:xfrm>
            <a:off x="1447920" y="1828800"/>
            <a:ext cx="67816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reece-athens.com/places_images/31.jpg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33520" y="1676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acksonmanngradesix.weebly.com/uploads/6/5/2/2/6522842/4323090.png?345"/>
          <p:cNvPicPr/>
          <p:nvPr/>
        </p:nvPicPr>
        <p:blipFill>
          <a:blip r:embed="rId1"/>
          <a:stretch/>
        </p:blipFill>
        <p:spPr>
          <a:xfrm>
            <a:off x="1981080" y="2100240"/>
            <a:ext cx="60962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1295280" y="2719440"/>
            <a:ext cx="5334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or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63360" y="-474840"/>
            <a:ext cx="12765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1371600" y="2590920"/>
            <a:ext cx="53341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1143000" y="2819520"/>
            <a:ext cx="6554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1600200" y="2895480"/>
            <a:ext cx="6172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2417760"/>
            <a:ext cx="41911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2:23Z</dcterms:modified>
  <cp:revision>94</cp:revision>
  <dc:subject/>
  <dc:title>Ancient Greece</dc:title>
</cp:coreProperties>
</file>